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A46F-F283-4370-AFF2-18C56BE5B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CDAB-41E7-4356-99D0-15D3C42A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00D8-5046-41A2-A5C2-348A647DF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223F-7BE0-4C20-AF12-60D4E03AE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68AF0-7DB2-4D69-A2D5-A4FDEDCC1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06BCA-1570-4C4C-B68A-AC6A84D3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0D59F-2984-4CC8-B37F-AD5E8037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EBE25-93FC-4267-84CF-A99F0A31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594CF-533C-48CF-A932-8E3AD0CE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2D21B-95AB-4233-888E-5A230106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8F13C-39D0-4EF0-B81B-C536A63F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85A0-BB3D-482A-B1C2-C3130C7F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2F476-EB03-4356-AF8E-7B7429C6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AB630-1726-43C6-BDA1-5CC5BC7B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D0FC1-7D0D-4F7F-9AD4-4666D78D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03C19-F14A-47D8-AC00-313873D9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07238-B3D7-49ED-8D93-1380C39F1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80379-74C0-4139-A4AD-045B0E6AF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75E51-D0EB-41E3-B459-3430D8B1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0CC19-3F83-46E1-A651-154B6C37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2AE14-1D03-4304-96F0-55DA930C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79DEF-9760-4514-8659-C90E8B37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0FE4-6947-4D7D-9AC4-4D9898F0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88E6D-5A40-41CF-8579-4A789459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F086B-16F0-466E-A830-F8404014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F34DE-A645-45F8-81F9-CDCB0B6E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29CD9-718C-4DBC-9C1E-FB5938A7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252DF-2787-4926-BB07-33CBF611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D4F51-1AFC-4C0D-940F-67403787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7A013-89D1-44D0-9D99-2AFB6DA9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B4199B-105D-437D-B7C0-47A3C009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846CA1-4221-444D-B191-32BAE1FF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75F6DD-94E4-4E89-B28E-B73EA872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30E6-149C-4D01-AACD-24243E4F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4C2247-3593-41FD-9B64-B34258D0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225455-0B08-414F-9D67-6E2416EA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CCDB3B-5F3A-45B4-BD92-460F85D4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9FC222-4332-44E5-92D4-2FCD69CA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1E3D22-D22C-48A5-9D58-A560CDB8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533138-95B8-4E55-A97D-4331A98D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101D05-3AFF-4CAB-A70A-FA87303B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032A2A-43D7-4BE0-8BA2-F7F8A8415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3496B9-DF35-48BA-8B14-1C1B6314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D3AC3A-08E2-4673-AD77-3892B5FEC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37C0-5122-4416-BADC-87624B57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202AFD-D9F1-4943-8A65-925AD7CD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C037A1-A6D5-4203-966B-C6866ECD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56DB17-5B4C-42CE-91C1-BF3505BF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7D7269-16F5-4EC7-AE02-8D3AB2E1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085F84-CAB2-4D5A-8DE1-98E79950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091E74-F35F-4D55-9DC8-2358A661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F75875-CCB3-489A-9311-6A2125F0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AABFDE-0BCD-4A4A-AA6C-54F372DD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132470-8CCB-4AB3-8C1C-8D163BF2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66BCF7-94B3-48EC-851E-61A4FFA4F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2835-3DCE-4E18-B35B-2FDE58BB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1CA0C4-4F30-4BCC-BCB7-ED75E2963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816BEF-CEA1-4AFF-AB56-B44C034F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7BA2FD-A042-4AD2-B6A8-3B41EF1F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882B19-627B-4487-8949-8935177E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A47286-1F0E-4C63-8C1A-42713682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A8B53F-A168-4792-9DF4-58F3F72E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D24AE8-8943-4E68-ABD5-3C8BC255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C63E07-3C00-443E-8310-975F9267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705651-5B6D-431F-A5BF-54F61530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F5D510-7D22-4707-B443-D6583CF5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F4D3-0A4F-4DA3-99D2-E8EDF82A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7DC115-3FC9-4444-87A2-DD3F94AF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D9B903-E78C-4CAC-A869-7F66E206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9CEE55-D039-4B3E-AC65-62D90E87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88B9-1EDB-44A2-92DF-6F02B3B4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55CB-7FFB-400B-85EC-7667B825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5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6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1d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1021-7253-4B99-9F42-1889D1BCAB50}" type="slidenum">
              <a:rPr b="0" lang="en-US" sz="1600" spc="-1" strike="noStrike">
                <a:solidFill>
                  <a:srgbClr val="faf1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9f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9f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5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6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1d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0093-EF05-4B20-802F-4BF4E959766B}" type="slidenum">
              <a:rPr b="0" lang="en-US" sz="1600" spc="-1" strike="noStrike">
                <a:solidFill>
                  <a:srgbClr val="faf1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5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6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1d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CDF2-4493-42E0-9C16-C595575FDB60}" type="slidenum">
              <a:rPr b="0" lang="en-US" sz="1600" spc="-1" strike="noStrike">
                <a:solidFill>
                  <a:srgbClr val="faf1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9f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9f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5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6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3574-79D5-4C38-B5BD-A20F6ED1CE49}" type="slidenum">
              <a:rPr b="0" lang="en-US" sz="1600" spc="-1" strike="noStrike">
                <a:solidFill>
                  <a:srgbClr val="faf1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1d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5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6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1d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26D7-C5A6-425F-AF99-FE4C43C5C063}" type="slidenum">
              <a:rPr b="0" lang="en-US" sz="1600" spc="-1" strike="noStrike">
                <a:solidFill>
                  <a:srgbClr val="faf1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5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6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1d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4BBA-6571-412F-9C07-B4C7B5E94FAA}" type="slidenum">
              <a:rPr b="0" lang="en-US" sz="1600" spc="-1" strike="noStrike">
                <a:solidFill>
                  <a:srgbClr val="faf1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4648320"/>
            <a:ext cx="8610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imes New Roman"/>
              </a:rPr>
              <a:t>Автор: Насибова А.Т,</a:t>
            </a:r>
            <a:br>
              <a:rPr sz="3200"/>
            </a:br>
            <a:r>
              <a:rPr b="0" lang="ru-RU" sz="3200" spc="-1" strike="noStrike">
                <a:solidFill>
                  <a:srgbClr val="ff9900"/>
                </a:solidFill>
                <a:latin typeface="Times New Roman"/>
              </a:rPr>
              <a:t>студентка 4 курса филологического факультета КГПИ</a:t>
            </a:r>
            <a:br>
              <a:rPr sz="3200"/>
            </a:br>
            <a:r>
              <a:rPr b="0" lang="ru-RU" sz="3200" spc="-1" strike="noStrike">
                <a:solidFill>
                  <a:srgbClr val="ff9900"/>
                </a:solidFill>
                <a:latin typeface="Times New Roman"/>
              </a:rPr>
              <a:t>2011 г.</a:t>
            </a:r>
            <a:endParaRPr b="0" lang="en-US" sz="3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83059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ff"/>
                </a:solidFill>
                <a:latin typeface="Arial"/>
              </a:rPr>
              <a:t>Образ Афины Паллады в искусстве</a:t>
            </a:r>
            <a:endParaRPr b="0" lang="en-US" sz="4000" spc="-1" strike="noStrike">
              <a:solidFill>
                <a:srgbClr val="fdf59c"/>
              </a:solidFill>
              <a:latin typeface="Century Schoolbook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2266920" cy="36478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6095880" y="1295280"/>
            <a:ext cx="24400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ff"/>
                </a:solidFill>
                <a:latin typeface="Arial"/>
              </a:rPr>
              <a:t>Где скрывается мудрость?</a:t>
            </a:r>
            <a:endParaRPr b="0" lang="en-US" sz="3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9900"/>
                </a:solidFill>
                <a:latin typeface="Arial"/>
              </a:rPr>
              <a:t>Основной вопрос:</a:t>
            </a: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1371600" y="3505320"/>
            <a:ext cx="3352680" cy="301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3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9900"/>
                </a:solidFill>
                <a:latin typeface="Times New Roman"/>
              </a:rPr>
              <a:t>Проблемные вопросы:</a:t>
            </a: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a3d8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ff"/>
                </a:solidFill>
                <a:latin typeface="Arial"/>
              </a:rPr>
              <a:t>Какова роль мифологии в мировом искусстве? </a:t>
            </a:r>
            <a:endParaRPr b="0" lang="en-US" sz="28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a3d8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ff"/>
                </a:solidFill>
                <a:latin typeface="Arial"/>
              </a:rPr>
              <a:t>Какова роль Афины Паллады в культуре античности?</a:t>
            </a:r>
            <a:endParaRPr b="0" lang="en-US" sz="2800" spc="-1" strike="noStrike">
              <a:solidFill>
                <a:srgbClr val="fdf59c"/>
              </a:solidFill>
              <a:latin typeface="Century Schoolbook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6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76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9900"/>
                </a:solidFill>
                <a:latin typeface="Century Schoolbook"/>
              </a:rPr>
              <a:t>Дидактическая</a:t>
            </a:r>
            <a:r>
              <a:rPr b="0" lang="ru-RU" sz="4400" spc="-1" strike="noStrike">
                <a:solidFill>
                  <a:srgbClr val="ff9900"/>
                </a:solidFill>
                <a:latin typeface="Century Schoolbook"/>
              </a:rPr>
              <a:t> цель проекта:</a:t>
            </a:r>
            <a:endParaRPr b="0" lang="en-US" sz="44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ff"/>
                </a:solidFill>
                <a:latin typeface="Bookman Old Style"/>
              </a:rPr>
              <a:t>Приобщение учеников к искусству.</a:t>
            </a:r>
            <a:endParaRPr b="0" lang="en-US" sz="48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df59c"/>
              </a:solidFill>
              <a:latin typeface="Century Schoolbook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9900"/>
                </a:solidFill>
                <a:latin typeface="Century Schoolbook"/>
              </a:rPr>
              <a:t>Методические задачи:</a:t>
            </a:r>
            <a:endParaRPr b="0" lang="en-US" sz="48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SzPct val="85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ff"/>
                </a:solidFill>
                <a:latin typeface="Arial"/>
              </a:rPr>
              <a:t>Познакомить с античными мифами.</a:t>
            </a:r>
            <a:endParaRPr b="0" lang="en-US" sz="28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SzPct val="85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ff"/>
                </a:solidFill>
                <a:latin typeface="Arial"/>
              </a:rPr>
              <a:t>Дать представление об античной культуре.</a:t>
            </a:r>
            <a:endParaRPr b="0" lang="en-US" sz="28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SzPct val="85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ff"/>
                </a:solidFill>
                <a:latin typeface="Arial"/>
              </a:rPr>
              <a:t>Воспитать интерес к культуре античности.</a:t>
            </a:r>
            <a:endParaRPr b="0" lang="en-US" sz="28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SzPct val="85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ff"/>
                </a:solidFill>
                <a:latin typeface="Arial"/>
              </a:rPr>
              <a:t>Развить познавательную активность.</a:t>
            </a:r>
            <a:endParaRPr b="0" lang="en-US" sz="28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9c"/>
              </a:solidFill>
              <a:latin typeface="Century Schoolbook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8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609120" y="1752480"/>
            <a:ext cx="8534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18160" indent="-218160" algn="just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Доклада.</a:t>
            </a:r>
            <a:endParaRPr b="0" lang="en-US" sz="3200" spc="-1" strike="noStrike">
              <a:solidFill>
                <a:srgbClr val="fdf59c"/>
              </a:solidFill>
              <a:latin typeface="Century Schoolbook"/>
            </a:endParaRPr>
          </a:p>
          <a:p>
            <a:pPr marL="218160" indent="-218160" algn="just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df59c"/>
              </a:solidFill>
              <a:latin typeface="Century Schoolbook"/>
            </a:endParaRPr>
          </a:p>
          <a:p>
            <a:pPr marL="218160" indent="-218160" algn="just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Фоторепортажа.</a:t>
            </a:r>
            <a:endParaRPr b="0" lang="en-US" sz="3200" spc="-1" strike="noStrike">
              <a:solidFill>
                <a:srgbClr val="fdf59c"/>
              </a:solidFill>
              <a:latin typeface="Century Schoolbook"/>
            </a:endParaRPr>
          </a:p>
          <a:p>
            <a:pPr marL="218160" indent="-218160" algn="just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df59c"/>
              </a:solidFill>
              <a:latin typeface="Century Schoolbook"/>
            </a:endParaRPr>
          </a:p>
          <a:p>
            <a:pPr marL="218160" indent="-218160" algn="just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Сочинения.</a:t>
            </a:r>
            <a:endParaRPr b="0" lang="en-US" sz="3200" spc="-1" strike="noStrike">
              <a:solidFill>
                <a:srgbClr val="fdf59c"/>
              </a:solidFill>
              <a:latin typeface="Century Schoolbook"/>
            </a:endParaRPr>
          </a:p>
          <a:p>
            <a:pPr marL="218160" indent="-218160" algn="just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df59c"/>
              </a:solidFill>
              <a:latin typeface="Century Schoolbook"/>
            </a:endParaRPr>
          </a:p>
          <a:p>
            <a:pPr marL="218160" indent="-218160" algn="just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Презентации.</a:t>
            </a:r>
            <a:endParaRPr b="0" lang="en-US" sz="3200" spc="-1" strike="noStrike">
              <a:solidFill>
                <a:srgbClr val="fdf59c"/>
              </a:solidFill>
              <a:latin typeface="Century Schoolbook"/>
            </a:endParaRPr>
          </a:p>
          <a:p>
            <a:pPr marL="218160" indent="-218160" algn="just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2286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Times New Roman"/>
              </a:rPr>
              <a:t>Результаты исследования могут быть представлены в виде:</a:t>
            </a:r>
            <a:endParaRPr b="0" lang="en-US" sz="3600" spc="-1" strike="noStrike">
              <a:solidFill>
                <a:srgbClr val="fdf59c"/>
              </a:solidFill>
              <a:latin typeface="Century Schoolbook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9900"/>
                </a:solidFill>
                <a:latin typeface="Arial"/>
              </a:rPr>
              <a:t>Темы:</a:t>
            </a: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5235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9900ff"/>
                </a:solidFill>
                <a:latin typeface="Arial"/>
              </a:rPr>
              <a:t>Афина Паллада.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9900ff"/>
                </a:solidFill>
                <a:latin typeface="Arial"/>
              </a:rPr>
              <a:t>Образ Афины Паллады в живописи.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9900ff"/>
                </a:solidFill>
                <a:latin typeface="Arial"/>
              </a:rPr>
              <a:t>Образ Афины Паллады в скульптуре.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9900ff"/>
                </a:solidFill>
                <a:latin typeface="Arial"/>
              </a:rPr>
              <a:t>Образ Афины Паллады в архитектуре.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1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10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15228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9900"/>
                </a:solidFill>
                <a:latin typeface="Century Schoolbook"/>
              </a:rPr>
              <a:t>Этапы проведения проекта</a:t>
            </a:r>
            <a:r>
              <a:rPr b="0" lang="ru-RU" sz="48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Arial"/>
              </a:rPr>
              <a:t>Выбор темы и форм её проведения.</a:t>
            </a:r>
            <a:endParaRPr b="0" lang="en-US" sz="32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Arial"/>
              </a:rPr>
              <a:t>Поиск информации.</a:t>
            </a:r>
            <a:endParaRPr b="0" lang="en-US" sz="32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Arial"/>
              </a:rPr>
              <a:t>Самостоятельная работа учащихся.</a:t>
            </a:r>
            <a:endParaRPr b="0" lang="en-US" sz="32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Arial"/>
              </a:rPr>
              <a:t>Защита проекта.</a:t>
            </a:r>
            <a:endParaRPr b="0" lang="en-US" sz="32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Продолжительность проекта  2 недели. </a:t>
            </a:r>
            <a:endParaRPr b="0" lang="en-US" sz="3200" spc="-1" strike="noStrike">
              <a:solidFill>
                <a:srgbClr val="fdf59c"/>
              </a:solidFill>
              <a:latin typeface="Century Schoolbook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2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2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72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2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1200"/>
                            </p:stCondLst>
                            <p:childTnLst>
                              <p:par>
                                <p:cTn id="1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9320" y="5335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Times New Roman"/>
              </a:rPr>
              <a:t>Информационные ресурсы</a:t>
            </a:r>
            <a:endParaRPr b="0" lang="en-US" sz="44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42640" y="2179440"/>
            <a:ext cx="7543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9900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ff"/>
                </a:solidFill>
                <a:latin typeface="Arial"/>
              </a:rPr>
              <a:t>Рождение Афины.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9900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ff"/>
                </a:solidFill>
                <a:latin typeface="Arial"/>
              </a:rPr>
              <a:t>Афина.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9900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ff"/>
                </a:solidFill>
                <a:latin typeface="Arial"/>
              </a:rPr>
              <a:t>Афина. Галерея.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9900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ff"/>
                </a:solidFill>
                <a:latin typeface="Arial"/>
              </a:rPr>
              <a:t>Афина в искусстве.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9900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ff"/>
                </a:solidFill>
                <a:latin typeface="Arial"/>
              </a:rPr>
              <a:t>Афина Паллада. История.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2" dur="1000" fill="hold"/>
                                        <p:tgtEl>
                                          <p:spTgt spid="2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7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9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фина</cp:lastModifiedBy>
  <dcterms:modified xsi:type="dcterms:W3CDTF">2011-04-12T06:13:23Z</dcterms:modified>
  <cp:revision>18</cp:revision>
  <dc:subject/>
  <dc:title>   Добрые Боги Древнего Египта</dc:title>
</cp:coreProperties>
</file>